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1.jpeg" ContentType="image/jpeg"/>
  <Override PartName="/ppt/media/image13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23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dt" idx="5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ftr" idx="6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 type="sldNum" idx="7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F04BC-1710-4C25-8334-E7F2BFD97E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3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93313-8B83-4DB1-88EF-2BCAB16535B4}" type="slidenum">
              <a:rPr b="1" lang="en-US" sz="1200" spc="-1" strike="noStrike">
                <a:solidFill>
                  <a:srgbClr val="3b3b3b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D6041-E4F1-4A68-8352-96D7472CAD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1BF97-D866-4E1C-AA69-5DA3332619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50FBD-4A4E-4C4F-8DC1-629B448806E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9A9BD-D99B-4B11-A7C0-983203EF534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72BC5-A02A-4404-BBFE-6E3C08D877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13119-C93F-4740-AA8F-5F29CFEC63F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CF2D-30E1-425D-AAF3-505C9FFD8872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2374-EB7B-40D7-809C-A32E4C74490F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D022-2C9F-43C1-8586-81647323BADD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A4C2E-61E1-4F70-9826-58F5015DD1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CC371E-4CCE-4EA5-A247-696836384BA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E155-A275-41FB-ACFA-9135AF0D08E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3EDF-E746-4D01-B11D-C9C16A6A4E0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229C-17B0-462E-98A0-DFEA33AD2C4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8DBA-B2EB-4B32-8F3D-B4C4DBF0DA0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DF09-707A-4251-AB3B-E0750F7390A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65A5-91C7-470B-8005-3DF3FDCF323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85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31380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41440" y="39315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172DF-E5FC-49C8-837A-0979030681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B3C863-561F-4069-BBC2-C963A0E5A71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AFE3BA-1C42-4067-8F15-3348465A9B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480"/>
            <a:ext cx="777240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45EB0A-2C27-4EDF-B283-D4492C2FC5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EC50F3-4365-460C-9868-4CCC04B798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39315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9E7DD5-B349-4C77-9422-D12D988420D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5626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9315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56E4A-3F99-4132-9CFC-3C94536451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b3b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3b3b3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3b3b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3b3b3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3b3b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781320" y="6339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27164-9B1A-48A8-9DE5-402FEFB250B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0004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© 2009 World Education Services,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Line 5"/>
          <p:cNvSpPr/>
          <p:nvPr/>
        </p:nvSpPr>
        <p:spPr>
          <a:xfrm>
            <a:off x="762120" y="1905120"/>
            <a:ext cx="7619760" cy="0"/>
          </a:xfrm>
          <a:prstGeom prst="line">
            <a:avLst/>
          </a:prstGeom>
          <a:ln w="31680">
            <a:solidFill>
              <a:srgbClr val="076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3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41" name="Line 5"/>
          <p:cNvSpPr/>
          <p:nvPr/>
        </p:nvSpPr>
        <p:spPr>
          <a:xfrm>
            <a:off x="1447920" y="685800"/>
            <a:ext cx="0" cy="4419720"/>
          </a:xfrm>
          <a:prstGeom prst="line">
            <a:avLst/>
          </a:prstGeom>
          <a:ln w="31680">
            <a:solidFill>
              <a:srgbClr val="076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1" lang="en-US" sz="23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42" name="Picture 9" descr="C:\Documents and Settings\andrewu\Desktop\images\logo'.png"/>
          <p:cNvPicPr/>
          <p:nvPr/>
        </p:nvPicPr>
        <p:blipFill>
          <a:blip r:embed="rId3"/>
          <a:stretch/>
        </p:blipFill>
        <p:spPr>
          <a:xfrm>
            <a:off x="6400800" y="4724280"/>
            <a:ext cx="2022480" cy="14018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b3b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3b3b3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3b3b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3b3b3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3b3b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Line 5"/>
          <p:cNvSpPr/>
          <p:nvPr/>
        </p:nvSpPr>
        <p:spPr>
          <a:xfrm>
            <a:off x="762120" y="1219320"/>
            <a:ext cx="7619760" cy="0"/>
          </a:xfrm>
          <a:prstGeom prst="line">
            <a:avLst/>
          </a:prstGeom>
          <a:ln w="31680">
            <a:solidFill>
              <a:srgbClr val="07632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23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82" name="Picture 7" descr="C:\Documents and Settings\andrewu\Desktop\images\logo'.png"/>
          <p:cNvPicPr/>
          <p:nvPr/>
        </p:nvPicPr>
        <p:blipFill>
          <a:blip r:embed="rId3"/>
          <a:stretch/>
        </p:blipFill>
        <p:spPr>
          <a:xfrm>
            <a:off x="152280" y="6095880"/>
            <a:ext cx="932040" cy="6462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3b3b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3b3b3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3b3b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3b3b3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3b3b3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3"/>
          </p:nvPr>
        </p:nvSpPr>
        <p:spPr>
          <a:xfrm>
            <a:off x="6781320" y="6339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16E6B-01ED-4726-8F1A-4E4B065A713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4"/>
          </p:nvPr>
        </p:nvSpPr>
        <p:spPr>
          <a:xfrm>
            <a:off x="320004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Times New Roman"/>
              </a:rPr>
              <a:t>© 2009 World Education Services, Inc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6765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76323"/>
                </a:solidFill>
                <a:latin typeface="Calibri"/>
                <a:ea typeface="Calibri"/>
              </a:rPr>
              <a:t>World Education Services</a:t>
            </a:r>
            <a:endParaRPr b="1" lang="en-US" sz="42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599840" y="2209680"/>
            <a:ext cx="380988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#CdnImm March 2013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385D-608E-4AD2-A30F-7BC69357BE0F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72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173" name="Chart 7" descr=""/>
          <p:cNvPicPr/>
          <p:nvPr/>
        </p:nvPicPr>
        <p:blipFill>
          <a:blip r:embed="rId1"/>
          <a:stretch/>
        </p:blipFill>
        <p:spPr>
          <a:xfrm>
            <a:off x="304920" y="1311120"/>
            <a:ext cx="4876560" cy="4194360"/>
          </a:xfrm>
          <a:prstGeom prst="rect">
            <a:avLst/>
          </a:prstGeom>
          <a:ln w="0">
            <a:noFill/>
          </a:ln>
        </p:spPr>
      </p:pic>
      <p:sp>
        <p:nvSpPr>
          <p:cNvPr id="174" name="TextBox 8"/>
          <p:cNvSpPr/>
          <p:nvPr/>
        </p:nvSpPr>
        <p:spPr>
          <a:xfrm>
            <a:off x="304920" y="1347840"/>
            <a:ext cx="5790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b3b3b"/>
                </a:solidFill>
                <a:latin typeface="Calibri"/>
                <a:ea typeface="Calibri"/>
              </a:rPr>
              <a:t>Did you gain admission to any of the academic institutions where you submitted your WES evaluation report?</a:t>
            </a:r>
            <a:endParaRPr b="1" lang="en-US" sz="1800" spc="-1" strike="noStrike">
              <a:solidFill>
                <a:srgbClr val="3b3b3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75" name="TextBox 9"/>
          <p:cNvSpPr/>
          <p:nvPr/>
        </p:nvSpPr>
        <p:spPr>
          <a:xfrm>
            <a:off x="4952880" y="2444760"/>
            <a:ext cx="38102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b3b3b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b3b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3b3b"/>
                </a:solidFill>
                <a:latin typeface="Calibri"/>
                <a:ea typeface="Calibri"/>
              </a:rPr>
              <a:t> </a:t>
            </a:r>
            <a:r>
              <a:rPr b="0" lang="en-US" sz="1800" spc="-1" strike="noStrike">
                <a:solidFill>
                  <a:srgbClr val="3b3b3b"/>
                </a:solidFill>
                <a:latin typeface="Calibri"/>
                <a:ea typeface="Calibri"/>
              </a:rPr>
              <a:t>About  half of the clients who were not admitted believed that their </a:t>
            </a:r>
            <a:r>
              <a:rPr b="1" lang="en-US" sz="1800" spc="-1" strike="noStrike">
                <a:solidFill>
                  <a:srgbClr val="3b3b3b"/>
                </a:solidFill>
                <a:latin typeface="Calibri"/>
                <a:ea typeface="Calibri"/>
              </a:rPr>
              <a:t>foreign education was not recognized</a:t>
            </a:r>
            <a:br>
              <a:rPr sz="1800"/>
            </a:br>
            <a:r>
              <a:rPr b="1" lang="en-US" sz="1800" spc="-1" strike="noStrike">
                <a:solidFill>
                  <a:srgbClr val="3b3b3b"/>
                </a:solidFill>
                <a:latin typeface="Calibri"/>
              </a:rPr>
              <a:t> </a:t>
            </a:r>
            <a:endParaRPr b="1" lang="en-US" sz="1800" spc="-1" strike="noStrike">
              <a:solidFill>
                <a:srgbClr val="3b3b3b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b3b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b3b3b"/>
                </a:solidFill>
                <a:latin typeface="Calibri"/>
                <a:ea typeface="Calibri"/>
              </a:rPr>
              <a:t>85% of clients believe a WES report helped them achieve education and career goals</a:t>
            </a:r>
            <a:br>
              <a:rPr sz="1800"/>
            </a:br>
            <a:r>
              <a:rPr b="0" lang="en-US" sz="1800" spc="-1" strike="noStrike">
                <a:solidFill>
                  <a:srgbClr val="3b3b3b"/>
                </a:solidFill>
                <a:latin typeface="Calibri"/>
              </a:rPr>
              <a:t> </a:t>
            </a:r>
            <a:endParaRPr b="1" lang="en-US" sz="1800" spc="-1" strike="noStrike">
              <a:solidFill>
                <a:srgbClr val="3b3b3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Assessment &amp; Recognition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WES Basic Reports</a:t>
            </a: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	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  <a:ea typeface="Calibri"/>
              </a:rPr>
              <a:t>Document-by-Document (DxD)</a:t>
            </a:r>
            <a:br>
              <a:rPr sz="32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Recommended for employment, immigration/work visa permits, and entry to apprenticeship training programs</a:t>
            </a:r>
            <a:br>
              <a:rPr sz="28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b3b3b"/>
                </a:solidFill>
                <a:latin typeface="Calibri"/>
                <a:ea typeface="Calibri"/>
              </a:rPr>
              <a:t>Course-by-Course (CxC)</a:t>
            </a:r>
            <a:br>
              <a:rPr sz="3200"/>
            </a:br>
            <a:r>
              <a:rPr b="0" lang="en-US" sz="2000" spc="-1" strike="noStrike">
                <a:solidFill>
                  <a:srgbClr val="3b3b3b"/>
                </a:solidFill>
                <a:latin typeface="Calibri"/>
                <a:ea typeface="Calibri"/>
              </a:rPr>
              <a:t>** includes DxD</a:t>
            </a:r>
            <a:br>
              <a:rPr sz="20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Recommended for higher or continuing education and some licensure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81D8E-58F8-48BB-8F52-D7CD81D09DCD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80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Required Documents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62120" y="1599840"/>
            <a:ext cx="807696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Helps ensure recognition and portability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262699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2699"/>
                </a:solidFill>
                <a:latin typeface="Calibri"/>
                <a:ea typeface="Calibri"/>
              </a:rPr>
              <a:t>http://www.wes.org/ca/required/index.asp</a:t>
            </a:r>
            <a:br>
              <a:rPr sz="2800"/>
            </a:br>
            <a:r>
              <a:rPr b="0" lang="en-US" sz="2800" spc="-1" strike="noStrike">
                <a:solidFill>
                  <a:srgbClr val="262699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Country specific requirements</a:t>
            </a:r>
            <a:br>
              <a:rPr sz="28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Authentication Statement on evaluation report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b3b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9ACC4-BC8F-4FD8-9328-E2A13D5228D9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84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Arial"/>
              </a:rPr>
              <a:t>Document-by-Document (DxD)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E0119-C994-4550-8E52-54C263C9E13B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87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09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188" name="Picture 6" descr="658775 China Sample_1.jpg"/>
          <p:cNvPicPr/>
          <p:nvPr/>
        </p:nvPicPr>
        <p:blipFill>
          <a:blip r:embed="rId1"/>
          <a:srcRect l="6781" t="8063" r="5086" b="10684"/>
          <a:stretch/>
        </p:blipFill>
        <p:spPr>
          <a:xfrm>
            <a:off x="2286000" y="1295280"/>
            <a:ext cx="4537080" cy="5410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Arial"/>
              </a:rPr>
              <a:t>Course-by-Course (CxC)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90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DC62-FC56-4F90-9619-8269FFC65A85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09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192" name="Content Placeholder 6" descr="658775 China Sample_2.jpg"/>
          <p:cNvPicPr/>
          <p:nvPr/>
        </p:nvPicPr>
        <p:blipFill>
          <a:blip r:embed="rId1"/>
          <a:srcRect l="8297" t="5011" r="0" b="2373"/>
          <a:stretch/>
        </p:blipFill>
        <p:spPr>
          <a:xfrm>
            <a:off x="2590920" y="1260360"/>
            <a:ext cx="4190760" cy="54738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80808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76323"/>
                </a:solidFill>
                <a:latin typeface="Calibri"/>
                <a:ea typeface="Calibri"/>
              </a:rPr>
              <a:t>International Credential Advantage Package</a:t>
            </a:r>
            <a:endParaRPr b="1" lang="en-US" sz="35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762120" y="160020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Enhanced report:</a:t>
            </a:r>
            <a:br>
              <a:rPr sz="28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ICAP DxD or ICAP CxC</a:t>
            </a:r>
            <a:br>
              <a:rPr sz="28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Stores verified academic transcripts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Delivers to institutions/licensing bodies in one complete package:</a:t>
            </a:r>
            <a:br>
              <a:rPr sz="28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* </a:t>
            </a:r>
            <a:r>
              <a:rPr b="1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verified transcripts </a:t>
            </a:r>
            <a:r>
              <a:rPr b="1" i="1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and</a:t>
            </a:r>
            <a:r>
              <a:rPr b="1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 evaluation report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F2C5-94AB-413D-9D3E-45F04CF5759C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96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WES Degree Equivalency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609480" y="152352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Free and instant preview (look-up) of post-secondary academic credentials without submitting any documents</a:t>
            </a:r>
            <a:br>
              <a:rPr sz="28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Degree Preview link: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3333cc"/>
                </a:solidFill>
                <a:latin typeface="Calibri"/>
                <a:ea typeface="Calibri"/>
              </a:rPr>
              <a:t>http://www.wes.org/ca/ 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24B0A-045E-4A99-B583-E9518506678F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00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Q &amp; A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685800" y="19810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590CC-A0AB-46FC-BAA1-4E53D8F36EE2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204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205" name="Rectangle 9" descr=""/>
          <p:cNvPicPr/>
          <p:nvPr/>
        </p:nvPicPr>
        <p:blipFill>
          <a:blip r:embed="rId1"/>
          <a:stretch/>
        </p:blipFill>
        <p:spPr>
          <a:xfrm>
            <a:off x="1828800" y="1371600"/>
            <a:ext cx="4668840" cy="785880"/>
          </a:xfrm>
          <a:prstGeom prst="rect">
            <a:avLst/>
          </a:prstGeom>
          <a:ln w="0">
            <a:noFill/>
          </a:ln>
        </p:spPr>
      </p:pic>
      <p:sp>
        <p:nvSpPr>
          <p:cNvPr id="206" name="TextBox 1"/>
          <p:cNvSpPr/>
          <p:nvPr/>
        </p:nvSpPr>
        <p:spPr>
          <a:xfrm>
            <a:off x="609480" y="2438280"/>
            <a:ext cx="6477120" cy="33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Sarah Hua</a:t>
            </a:r>
            <a:br>
              <a:rPr sz="2800"/>
            </a:br>
            <a:r>
              <a:rPr b="1" lang="en-US" sz="1600" spc="-1" strike="noStrike">
                <a:solidFill>
                  <a:srgbClr val="3b3b3b"/>
                </a:solidFill>
                <a:latin typeface="Calibri"/>
                <a:ea typeface="Calibri"/>
              </a:rPr>
              <a:t>International Education Recognition Advisor</a:t>
            </a:r>
            <a:br>
              <a:rPr sz="28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416.972.0070 x5244</a:t>
            </a:r>
            <a:br>
              <a:rPr sz="28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shua@wes.org</a:t>
            </a:r>
            <a:endParaRPr b="1" lang="en-US" sz="2800" spc="-1" strike="noStrike">
              <a:solidFill>
                <a:srgbClr val="3b3b3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b3b3b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World Education Services (WES)</a:t>
            </a:r>
            <a:br>
              <a:rPr sz="28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2 Carlton Street, Suite 1400</a:t>
            </a:r>
            <a:br>
              <a:rPr sz="2800"/>
            </a:br>
            <a:r>
              <a:rPr b="0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Toronto, ON M5B 1J3</a:t>
            </a:r>
            <a:endParaRPr b="1" lang="en-US" sz="28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Outline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53352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  <a:ea typeface="Calibri"/>
              </a:rPr>
              <a:t>Assessment vs. Recognition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  <a:ea typeface="Calibri"/>
              </a:rPr>
              <a:t>Assessment services in Canada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  <a:ea typeface="Calibri"/>
              </a:rPr>
              <a:t>About WES clients’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b3b3b"/>
                </a:solidFill>
                <a:latin typeface="Calibri"/>
                <a:ea typeface="Calibri"/>
              </a:rPr>
              <a:t>WES Documentation Requirements &amp; Services</a:t>
            </a: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A7B9D-6601-4AEC-B7DD-A3E0B758BB99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Barriers to Success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FA468-461F-42A3-908D-6521457BC576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38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139" name="Content Placeholder 5" descr=""/>
          <p:cNvPicPr/>
          <p:nvPr/>
        </p:nvPicPr>
        <p:blipFill>
          <a:blip r:embed="rId1"/>
          <a:stretch/>
        </p:blipFill>
        <p:spPr>
          <a:xfrm>
            <a:off x="384120" y="1298520"/>
            <a:ext cx="84614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What is Credential Evaluation?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685440" y="1447560"/>
            <a:ext cx="80773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Evaluations VS Recognition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Credential Evaluation</a:t>
            </a:r>
            <a:br>
              <a:rPr sz="2400"/>
            </a:br>
            <a:r>
              <a:rPr b="0" lang="en-US" sz="2700" spc="-1" strike="noStrike">
                <a:solidFill>
                  <a:srgbClr val="3b3b3b"/>
                </a:solidFill>
                <a:latin typeface="Calibri"/>
                <a:ea typeface="Calibri"/>
              </a:rPr>
              <a:t>International academic credentials comparison to Canadian standard</a:t>
            </a:r>
            <a:endParaRPr b="0" lang="en-US" sz="2700" spc="-1" strike="noStrike">
              <a:solidFill>
                <a:srgbClr val="3b3b3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b3b3b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b3b3b"/>
                </a:solidFill>
                <a:latin typeface="Calibri"/>
                <a:ea typeface="Calibri"/>
              </a:rPr>
              <a:t>May include validation of documents</a:t>
            </a:r>
            <a:endParaRPr b="0" lang="en-US" sz="2400" spc="-1" strike="noStrike">
              <a:solidFill>
                <a:srgbClr val="3b3b3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3b3b3b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b3b3b"/>
                </a:solidFill>
                <a:latin typeface="Calibri"/>
                <a:ea typeface="Calibri"/>
              </a:rPr>
              <a:t>Credential Recognition</a:t>
            </a:r>
            <a:br>
              <a:rPr sz="2400"/>
            </a:br>
            <a:r>
              <a:rPr b="0" lang="en-US" sz="2700" spc="-1" strike="noStrike">
                <a:solidFill>
                  <a:srgbClr val="3b3b3b"/>
                </a:solidFill>
                <a:latin typeface="Calibri"/>
                <a:ea typeface="Calibri"/>
              </a:rPr>
              <a:t>Acceptance of international academic credentials</a:t>
            </a:r>
            <a:endParaRPr b="0" lang="en-US" sz="27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42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43005-B283-4AA0-8787-08500713E810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43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About Assessment Services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33520" y="1447560"/>
            <a:ext cx="64008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5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Assessment services are used by: </a:t>
            </a:r>
            <a:endParaRPr b="0" lang="en-US" sz="2800" spc="-1" strike="noStrike">
              <a:solidFill>
                <a:srgbClr val="3b3b3b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academic institutions </a:t>
            </a:r>
            <a:endParaRPr b="0" lang="en-US" sz="2700" spc="-1" strike="noStrike">
              <a:solidFill>
                <a:srgbClr val="3b3b3b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licensing bodies </a:t>
            </a:r>
            <a:endParaRPr b="0" lang="en-US" sz="2700" spc="-1" strike="noStrike">
              <a:solidFill>
                <a:srgbClr val="3b3b3b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employers </a:t>
            </a:r>
            <a:endParaRPr b="0" lang="en-US" sz="2700" spc="-1" strike="noStrike">
              <a:solidFill>
                <a:srgbClr val="3b3b3b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apprenticeship training programs </a:t>
            </a:r>
            <a:endParaRPr b="0" lang="en-US" sz="2700" spc="-1" strike="noStrike">
              <a:solidFill>
                <a:srgbClr val="3b3b3b"/>
              </a:solidFill>
              <a:latin typeface="Arial"/>
            </a:endParaRPr>
          </a:p>
          <a:p>
            <a:pPr lvl="1" marL="698400" indent="-268560">
              <a:lnSpc>
                <a:spcPct val="95000"/>
              </a:lnSpc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  <a:ea typeface="Calibri"/>
              </a:rPr>
              <a:t>immigration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900" spc="-1" strike="noStrike">
              <a:solidFill>
                <a:srgbClr val="3b3b3b"/>
              </a:solidFill>
              <a:latin typeface="Arial"/>
            </a:endParaRPr>
          </a:p>
          <a:p>
            <a:pPr marL="322200" indent="-322200">
              <a:lnSpc>
                <a:spcPct val="95000"/>
              </a:lnSpc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Understanding who gives credential recognition can help  with accurate advisement</a:t>
            </a:r>
            <a:br>
              <a:rPr sz="2300"/>
            </a:br>
            <a:br>
              <a:rPr sz="2300"/>
            </a:br>
            <a:r>
              <a:rPr b="1" lang="en-US" sz="23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300" spc="-1" strike="noStrike">
              <a:solidFill>
                <a:srgbClr val="3b3b3b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b3b3b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b3b3b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b3b3b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b3b3b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b3b3b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649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1167-5801-4C93-95E8-242130606C49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47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6172200" y="2666880"/>
            <a:ext cx="42670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Evaluation Services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pic>
        <p:nvPicPr>
          <p:cNvPr id="150" name="Content Placeholder 5" descr=""/>
          <p:cNvPicPr/>
          <p:nvPr/>
        </p:nvPicPr>
        <p:blipFill>
          <a:blip r:embed="rId1"/>
          <a:stretch/>
        </p:blipFill>
        <p:spPr>
          <a:xfrm>
            <a:off x="1143000" y="2009880"/>
            <a:ext cx="6477120" cy="4411440"/>
          </a:xfrm>
          <a:prstGeom prst="rect">
            <a:avLst/>
          </a:prstGeom>
          <a:ln w="0">
            <a:noFill/>
          </a:ln>
        </p:spPr>
      </p:pic>
      <p:sp>
        <p:nvSpPr>
          <p:cNvPr id="151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3C9B7-6DBB-4C99-90D3-E4B9B0EAD675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52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914400" y="129528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Calibri"/>
              </a:rPr>
              <a:t>7 Agencies in Canada (canalliance.org); 3 in Ontario</a:t>
            </a:r>
            <a:endParaRPr b="1" lang="en-US" sz="20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3b3b3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b3b3b"/>
                </a:solidFill>
                <a:latin typeface="Calibri"/>
                <a:ea typeface="Calibri"/>
              </a:rPr>
              <a:t>http://www.cicic.ca/504/comparative-chart.canada</a:t>
            </a:r>
            <a:endParaRPr b="1" lang="en-US" sz="20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About WES Clients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55" name="Slide Number Placeholder 3"/>
          <p:cNvSpPr/>
          <p:nvPr/>
        </p:nvSpPr>
        <p:spPr>
          <a:xfrm>
            <a:off x="65530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82E49-CEEC-48A9-8F14-6EB896653F1B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65530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94AE-83DC-4805-8F3F-C3AEAAC24B50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57" name="Footer Placeholder 4"/>
          <p:cNvSpPr/>
          <p:nvPr/>
        </p:nvSpPr>
        <p:spPr>
          <a:xfrm>
            <a:off x="2971800" y="640080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158" name="Chart 10" descr=""/>
          <p:cNvPicPr/>
          <p:nvPr/>
        </p:nvPicPr>
        <p:blipFill>
          <a:blip r:embed="rId1"/>
          <a:stretch/>
        </p:blipFill>
        <p:spPr>
          <a:xfrm>
            <a:off x="558720" y="1320840"/>
            <a:ext cx="7721640" cy="48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76323"/>
                </a:solidFill>
                <a:latin typeface="Calibri"/>
                <a:ea typeface="Calibri"/>
              </a:rPr>
              <a:t>About WES Clients</a:t>
            </a:r>
            <a:endParaRPr b="1" lang="en-US" sz="40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A570F-8D7C-4BBA-BBE6-5A35D1923760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61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09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162" name="Chart 5" descr=""/>
          <p:cNvPicPr/>
          <p:nvPr/>
        </p:nvPicPr>
        <p:blipFill>
          <a:blip r:embed="rId1"/>
          <a:stretch/>
        </p:blipFill>
        <p:spPr>
          <a:xfrm>
            <a:off x="378000" y="1444680"/>
            <a:ext cx="5803560" cy="4279680"/>
          </a:xfrm>
          <a:prstGeom prst="rect">
            <a:avLst/>
          </a:prstGeom>
          <a:ln w="0">
            <a:noFill/>
          </a:ln>
        </p:spPr>
      </p:pic>
      <p:sp>
        <p:nvSpPr>
          <p:cNvPr id="163" name="TextBox 10"/>
          <p:cNvSpPr/>
          <p:nvPr/>
        </p:nvSpPr>
        <p:spPr>
          <a:xfrm>
            <a:off x="509760" y="1581120"/>
            <a:ext cx="5335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b3b3b"/>
                </a:solidFill>
                <a:latin typeface="Calibri"/>
                <a:ea typeface="Calibri"/>
              </a:rPr>
              <a:t>Highest Level of Education Attained</a:t>
            </a:r>
            <a:endParaRPr b="1" lang="en-US" sz="20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64" name="TextBox 12"/>
          <p:cNvSpPr/>
          <p:nvPr/>
        </p:nvSpPr>
        <p:spPr>
          <a:xfrm>
            <a:off x="6248520" y="3097080"/>
            <a:ext cx="26668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b3b3b"/>
                </a:solidFill>
                <a:latin typeface="Calibri"/>
                <a:ea typeface="Calibri"/>
              </a:rPr>
              <a:t>Majority in business, management, health and engineering</a:t>
            </a:r>
            <a:endParaRPr b="1" lang="en-US" sz="2200" spc="-1" strike="noStrike">
              <a:solidFill>
                <a:srgbClr val="3b3b3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76323"/>
                </a:solidFill>
                <a:latin typeface="Calibri"/>
                <a:ea typeface="Calibri"/>
              </a:rPr>
              <a:t>Higher or Continuing Education</a:t>
            </a:r>
            <a:endParaRPr b="1" lang="en-US" sz="3900" spc="-1" strike="noStrike">
              <a:solidFill>
                <a:srgbClr val="076323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80880" y="1371240"/>
            <a:ext cx="8382240" cy="328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3b3b3b"/>
                </a:solidFill>
                <a:latin typeface="Calibri"/>
                <a:ea typeface="Calibri"/>
              </a:rPr>
              <a:t>For every institution, there are program specific requirements for credential evaluation</a:t>
            </a:r>
            <a:endParaRPr b="0" lang="en-US" sz="29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3b3b3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3b3b3b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3b3b3b"/>
                </a:solidFill>
                <a:latin typeface="Calibri"/>
                <a:ea typeface="Calibri"/>
              </a:rPr>
              <a:t>Always check the specific program’s requirements!</a:t>
            </a:r>
            <a:br>
              <a:rPr sz="2900"/>
            </a:br>
            <a:r>
              <a:rPr b="1" lang="en-US" sz="2900" spc="-1" strike="noStrike">
                <a:solidFill>
                  <a:srgbClr val="3b3b3b"/>
                </a:solidFill>
                <a:latin typeface="Calibri"/>
              </a:rPr>
              <a:t> </a:t>
            </a:r>
            <a:endParaRPr b="0" lang="en-US" sz="29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6781680" y="6340320"/>
            <a:ext cx="2133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F6368-0D16-4A66-9975-7559E3F54B46}" type="slidenum">
              <a:rPr b="1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3b3b3b"/>
              </a:solidFill>
              <a:latin typeface="Arial"/>
            </a:endParaRPr>
          </a:p>
        </p:txBody>
      </p:sp>
      <p:sp>
        <p:nvSpPr>
          <p:cNvPr id="168" name="Footer Placeholder 4"/>
          <p:cNvSpPr/>
          <p:nvPr/>
        </p:nvSpPr>
        <p:spPr>
          <a:xfrm>
            <a:off x="3200400" y="649296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98989"/>
                </a:solidFill>
                <a:latin typeface="Arial"/>
              </a:rPr>
              <a:t>© 2013 World Education Services, Inc. All rights reserved.</a:t>
            </a:r>
            <a:endParaRPr b="1" lang="en-US" sz="800" spc="-1" strike="noStrike">
              <a:solidFill>
                <a:srgbClr val="3b3b3b"/>
              </a:solidFill>
              <a:latin typeface="Arial"/>
            </a:endParaRPr>
          </a:p>
        </p:txBody>
      </p:sp>
      <p:pic>
        <p:nvPicPr>
          <p:cNvPr id="169" name="Picture 4" descr=""/>
          <p:cNvPicPr/>
          <p:nvPr/>
        </p:nvPicPr>
        <p:blipFill>
          <a:blip r:embed="rId1"/>
          <a:stretch/>
        </p:blipFill>
        <p:spPr>
          <a:xfrm>
            <a:off x="3124080" y="3693960"/>
            <a:ext cx="4191120" cy="2845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5" descr=""/>
          <p:cNvPicPr/>
          <p:nvPr/>
        </p:nvPicPr>
        <p:blipFill>
          <a:blip r:embed="rId2"/>
          <a:stretch/>
        </p:blipFill>
        <p:spPr>
          <a:xfrm rot="20790600">
            <a:off x="1568160" y="3673080"/>
            <a:ext cx="2324160" cy="19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4T20:16:31Z</dcterms:created>
  <dc:creator/>
  <dc:description/>
  <dc:language>en-US</dc:language>
  <cp:lastModifiedBy>Sarah Hua</cp:lastModifiedBy>
  <dcterms:modified xsi:type="dcterms:W3CDTF">2013-03-07T17:08:14Z</dcterms:modified>
  <cp:revision>248</cp:revision>
  <dc:subject/>
  <dc:title>2010 WES INFO SESSIONS - APPLICANTS</dc:title>
</cp:coreProperties>
</file>